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12.jpeg" ContentType="image/jpeg"/>
  <Override PartName="/ppt/media/image27.jpeg" ContentType="image/jpeg"/>
  <Override PartName="/ppt/media/image6.jpeg" ContentType="image/jpeg"/>
  <Override PartName="/ppt/media/image26.png" ContentType="image/png"/>
  <Override PartName="/ppt/media/image17.jpeg" ContentType="image/jpeg"/>
  <Override PartName="/ppt/media/image11.wmf" ContentType="image/x-wmf"/>
  <Override PartName="/ppt/media/image7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4.wmf" ContentType="image/x-wmf"/>
  <Override PartName="/ppt/media/image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media/image20.wmf" ContentType="image/x-wmf"/>
  <Override PartName="/ppt/media/image21.png" ContentType="image/png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E0E-21B7-44D8-AD71-B1F89987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4203360"/>
            <a:ext cx="76960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284-6476-4D68-8289-710FCB42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4520" y="21337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2033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34520" y="42033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4EF-6949-4C14-A324-C3C5D158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92800" y="21337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94880" y="213372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42033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92800" y="42033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94880" y="4203360"/>
            <a:ext cx="24778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F04-0AE9-401A-850D-36066149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EB5-1BF9-4126-B08E-2EF90651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CF2-D3FE-4E1F-A69C-D3E51C3E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34520" y="21337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823-2120-4173-9F93-82CC6D1A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7AF-C73C-4268-80BC-58EC98E9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129492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7E5-782F-4EB9-ADA2-11BBEAFD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4520" y="21337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42033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AEE2-2760-49F5-BA69-4684A5C2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3755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34520" y="21337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34520" y="420336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FAC-32AD-4D2B-9656-CF9EB9FB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34520" y="2133720"/>
            <a:ext cx="3755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4203360"/>
            <a:ext cx="76960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673C-2AD9-405C-8CC8-24BB45C2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15328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D2C7-24F1-4BB2-89F3-31640EC88857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ousing.osu.edu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ap.google.com/" TargetMode="External"/><Relationship Id="rId2" Type="http://schemas.openxmlformats.org/officeDocument/2006/relationships/hyperlink" Target="http://forum.shyue.idv.tw/viewtopic.php?t=221" TargetMode="External"/><Relationship Id="rId3" Type="http://schemas.openxmlformats.org/officeDocument/2006/relationships/hyperlink" Target="http://forum.shyue.idv.tw/viewtopic.php?t=221" TargetMode="External"/><Relationship Id="rId4" Type="http://schemas.openxmlformats.org/officeDocument/2006/relationships/hyperlink" Target="http://forum.shyue.idv.tw/viewtopic.php?t=221" TargetMode="External"/><Relationship Id="rId5" Type="http://schemas.openxmlformats.org/officeDocument/2006/relationships/hyperlink" Target="http://forum.shyue.idv.tw/viewforum.php?f=13" TargetMode="External"/><Relationship Id="rId6" Type="http://schemas.openxmlformats.org/officeDocument/2006/relationships/hyperlink" Target="http://usg.osu.edu/posts/online%20guide.pdf" TargetMode="Externa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offcampus.osu.edu/default.asp" TargetMode="External"/><Relationship Id="rId2" Type="http://schemas.openxmlformats.org/officeDocument/2006/relationships/hyperlink" Target="http://offcampus.osu.edu/default.asp" TargetMode="External"/><Relationship Id="rId3" Type="http://schemas.openxmlformats.org/officeDocument/2006/relationships/hyperlink" Target="http://www.metro-rentals.com/" TargetMode="External"/><Relationship Id="rId4" Type="http://schemas.openxmlformats.org/officeDocument/2006/relationships/hyperlink" Target="http://www.apartmentreviews.net/ratings/oh-columbus1.ht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wsa.org.ohio-state.edu/newstudent/orientation.pdf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twsa.org.ohio-state.edu/newstudent/pickup.htm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buckeyelink.osu.edu/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webmail.osu.edu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huang.497@osu.edu" TargetMode="External"/><Relationship Id="rId2" Type="http://schemas.openxmlformats.org/officeDocument/2006/relationships/hyperlink" Target="mailto:rosa.yhchou@gmail.com" TargetMode="External"/><Relationship Id="rId3" Type="http://schemas.openxmlformats.org/officeDocument/2006/relationships/hyperlink" Target="mailto:kaiwei.fan@gmail.com" TargetMode="External"/><Relationship Id="rId4" Type="http://schemas.openxmlformats.org/officeDocument/2006/relationships/hyperlink" Target="mailto:rsliu.tw@yahoo.com.tw" TargetMode="External"/><Relationship Id="rId5" Type="http://schemas.openxmlformats.org/officeDocument/2006/relationships/hyperlink" Target="mailto:oakely2001@yahoo.com.tw" TargetMode="External"/><Relationship Id="rId6" Type="http://schemas.openxmlformats.org/officeDocument/2006/relationships/hyperlink" Target="mailto:fangdebby@yahoo.com" TargetMode="External"/><Relationship Id="rId7" Type="http://schemas.openxmlformats.org/officeDocument/2006/relationships/hyperlink" Target="mailto:lisaasil_chen@hotmail.com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mailto:fang.70@osu.edu" TargetMode="External"/><Relationship Id="rId2" Type="http://schemas.openxmlformats.org/officeDocument/2006/relationships/hyperlink" Target="mailto:wang.983@osu.edu" TargetMode="External"/><Relationship Id="rId3" Type="http://schemas.openxmlformats.org/officeDocument/2006/relationships/hyperlink" Target="mailto:littlelock@gmail.com" TargetMode="External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ningservices.osu.edu/dining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44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The Ohio State University</a:t>
            </a:r>
            <a:br>
              <a:rPr sz="4400"/>
            </a:b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台灣同學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4280" y="839880"/>
            <a:ext cx="20844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吃的東西不用愁，什麼料理都有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有中國超市（有利、東方、四海、華欣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很多東西都買得到，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鍋碗瓢盆、筷子、電鍋、菜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泡麵、各式調味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點心類（蛋捲、冰棒、果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tc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火鍋類（魚丸、貢丸、麻辣鍋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tc.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包子、饅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</a:t>
            </a:r>
            <a:r>
              <a:rPr b="1" lang="zh-TW" sz="6600" spc="-1" strike="noStrike">
                <a:solidFill>
                  <a:srgbClr val="000000"/>
                </a:solidFill>
                <a:latin typeface="Arial"/>
                <a:ea typeface="新細明體"/>
              </a:rPr>
              <a:t>衣     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32000" y="2973240"/>
            <a:ext cx="292572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2060640"/>
            <a:ext cx="4203720" cy="40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雪衣在美購買比較便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olu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North 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價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$80 USD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單件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$100 USD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雙件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ven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其他建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5567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貼身衣物不妨多帶幾套以免找不到合適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眼鏡和手錶也建議多帶一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隱形眼鏡藥水和生理食鹽水帶小瓶備用即可，可以減輕不少行李重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鞋子（尤其是運動鞋）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outlet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或是賣場也都買得到，不必帶太多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拖鞋倒是可以帶（像是經典的藍白拖鞋），美國拖鞋不便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摺疊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248520" y="2666880"/>
            <a:ext cx="2171520" cy="2171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43800" y="1638360"/>
            <a:ext cx="1257480" cy="1257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905440" y="1295280"/>
            <a:ext cx="1866960" cy="1866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477120" y="46483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00"/>
                </a:solidFill>
                <a:latin typeface="Arial"/>
                <a:ea typeface="新細明體"/>
              </a:rPr>
              <a:t>     </a:t>
            </a:r>
            <a:r>
              <a:rPr b="1" lang="zh-TW" sz="66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3280" y="2565360"/>
            <a:ext cx="24354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24000" y="968400"/>
            <a:ext cx="8424720" cy="5916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On Campu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( </a:t>
            </a: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  <a:ea typeface="新細明體"/>
                <a:hlinkClick r:id="rId2"/>
              </a:rPr>
              <a:t>http://housing.osu.edu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72360" y="5373720"/>
            <a:ext cx="504720" cy="503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4653000"/>
            <a:ext cx="504720" cy="503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48360" y="515772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Jones T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9800" y="4149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N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4508640"/>
            <a:ext cx="505080" cy="792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4437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B-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00720" y="6093000"/>
            <a:ext cx="1223640" cy="504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24360" y="5851440"/>
            <a:ext cx="16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ducation – Teaching &amp;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4437000"/>
            <a:ext cx="719280" cy="36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51280" y="4076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SE, CSE, 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076640"/>
            <a:ext cx="720720" cy="504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337500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edical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1628640"/>
            <a:ext cx="151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523280" y="1268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9476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07360" y="1411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On Campus—Jones To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889280" y="2133720"/>
            <a:ext cx="272556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84760" y="2133720"/>
            <a:ext cx="3152880" cy="39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887480" y="4181400"/>
            <a:ext cx="272736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On Campus—Neil Buil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15960" y="2133720"/>
            <a:ext cx="272592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35640" y="2133720"/>
            <a:ext cx="272556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433840" y="4181400"/>
            <a:ext cx="272916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514520" y="4181400"/>
            <a:ext cx="272880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Off Camp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9141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選擇極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如何選擇適合你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partment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大重點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交通方便為第一考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別高估自己在雪地中的耐寒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地圖網站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ea typeface="新細明體"/>
                <a:hlinkClick r:id="rId1"/>
              </a:rPr>
              <a:t>http://map.goog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ABS 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校內公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&amp; COTA 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市公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路線圖</a:t>
            </a:r>
            <a:br>
              <a:rPr sz="2400"/>
            </a:b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ea typeface="新細明體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ea typeface="新細明體"/>
                <a:hlinkClick r:id="rId3"/>
              </a:rPr>
              <a:t>forum.shyue.idv.tw/viewtopic.php?t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ea typeface="新細明體"/>
                <a:hlinkClick r:id="rId4"/>
              </a:rPr>
              <a:t>=2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重視前人經驗，勿鐵齒，亦勿龜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WSA 2006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Housing survey results</a:t>
            </a:r>
            <a:br>
              <a:rPr sz="2400"/>
            </a:b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ea typeface="新細明體"/>
                <a:hlinkClick r:id="rId5"/>
              </a:rPr>
              <a:t>http://forum.shyue.idv.tw/viewforum.php?f=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OSU 2005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Housing survey results</a:t>
            </a:r>
            <a:br>
              <a:rPr sz="2400"/>
            </a:b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ea typeface="新細明體"/>
                <a:hlinkClick r:id="rId6"/>
              </a:rPr>
              <a:t>http://usg.osu.edu/posts/online%20guide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Off Camp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其它網路資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ea typeface="新細明體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ea typeface="新細明體"/>
                <a:hlinkClick r:id="rId2"/>
              </a:rPr>
              <a:t>offcampus.osu.edu/default.a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ea typeface="新細明體"/>
                <a:hlinkClick r:id="rId3"/>
              </a:rPr>
              <a:t>http://www.metro-rental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ea typeface="新細明體"/>
                <a:hlinkClick r:id="rId4"/>
              </a:rPr>
              <a:t>http://www.apartmentreviews.net/ratings/oh-columbus1.h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新細明體"/>
              </a:rPr>
              <a:t>可至此下載此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pp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  <a:ea typeface="新細明體"/>
                <a:hlinkClick r:id="rId1"/>
              </a:rPr>
              <a:t>http://twsa.org.ohio-state.edu/newstudent/orientation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05228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On Campus vs. Off Camp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1722600"/>
          <a:ext cx="8785440" cy="5091120"/>
        </p:xfrm>
        <a:graphic>
          <a:graphicData uri="http://schemas.openxmlformats.org/drawingml/2006/table">
            <a:tbl>
              <a:tblPr/>
              <a:tblGrid>
                <a:gridCol w="1800360"/>
                <a:gridCol w="1184400"/>
                <a:gridCol w="2528640"/>
                <a:gridCol w="327204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空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生活便利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住屋選擇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5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n-cam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1-b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可步行上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校區附近機能完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靠公車買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腳踏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夏天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NL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選擇少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僅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Jones Tower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和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Ne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管理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住屋品質差異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免煩惱找房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-cam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1-b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大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比樓上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倍以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差異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不一定可步行上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大多靠公車或開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腳踏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夏天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NL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選擇非常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管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住屋品質差異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很煩惱找房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好屋須很早預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-cam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2-b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比樓上再多上一房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差異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不一定可步行上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大多靠公車或開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腳踏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夏天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NL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選擇非常多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管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,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住屋品質差異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很煩惱找房子和室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好屋須很早預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11966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On Campus vs. Off Camp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17720"/>
          <a:ext cx="8291520" cy="4751280"/>
        </p:xfrm>
        <a:graphic>
          <a:graphicData uri="http://schemas.openxmlformats.org/drawingml/2006/table">
            <a:tbl>
              <a:tblPr/>
              <a:tblGrid>
                <a:gridCol w="1811160"/>
                <a:gridCol w="3527640"/>
                <a:gridCol w="295272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家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生活事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n-cam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1-b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Furnish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僅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Neil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有廚房設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部份生活消耗品可免費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全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房租即包含水、電、瓦斯、網路、和市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-cam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1-b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絕大部份為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Un-furnish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可從舊生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oving sale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買二手家具或電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家具可長時間慢慢購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全不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少部份會包瓦斯和水， 或額外付費來無限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其它須自理自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-cam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2-b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絕大部份為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Un-furnish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可從舊生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oving sale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買二手家具或電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家具可長時間慢慢購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全不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少部份會包瓦斯和水，或額外付費來無限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&gt;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其它須自理自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08720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heape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4120" y="1666800"/>
          <a:ext cx="8435880" cy="5075280"/>
        </p:xfrm>
        <a:graphic>
          <a:graphicData uri="http://schemas.openxmlformats.org/drawingml/2006/table">
            <a:tbl>
              <a:tblPr/>
              <a:tblGrid>
                <a:gridCol w="1811520"/>
                <a:gridCol w="1512720"/>
                <a:gridCol w="2664000"/>
                <a:gridCol w="244764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Tra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n-cam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1-b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$404 (J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$632 (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$0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水、電、瓦斯、網路和市話全包在房租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Walk: 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Bike: 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Bus: 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-cam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1-b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$350~$6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*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: $10~$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: $10~$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*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瓦斯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: $10~$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網路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: $35~$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市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: (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大多不會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Walk: 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Bike: 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Bus: 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*Car: $125~$150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$10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是車保險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-cam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2-b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2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人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$450~$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*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: $15~$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: $15~$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*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瓦斯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: $15~$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網路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: $35~$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市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: (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大多不會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Walk: 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Bike: 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Bus: $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*Car: $125~$150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$10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是車保險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112500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五大迷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On Campus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一定比較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不一定，唯一能確定的只有”住屋空間較小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沒有廚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=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完全只能外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不一定，仍可使用冰箱、烤箱、微波爐或電磁爐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校區南邊治安一定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不一定，部份地區大致上仍然算是安全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告訴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Off Campus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哪一間最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每人對品質、價錢、空間、環境等接受度差距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一定要有車才能生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不一定，有車會自由很多，但坐公車也很方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ones To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Mail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101 Curl Dr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lumbus, Ohio 432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ntact the manager first. (614.292.9071)</a:t>
            </a:r>
            <a:br>
              <a:rPr sz="28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告知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姓名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包裹數量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抵達日期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、及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預計領取日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5013360"/>
            <a:ext cx="372744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r Name 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護照中英文姓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/O Jones Tower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01 Curl Dr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lumbus, Ohio 43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.S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Neil Buil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Mail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249 West 10th Aven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lumbus, Ohio 432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ntact the manager first. (614.292.6637)</a:t>
            </a:r>
            <a:br>
              <a:rPr sz="28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告知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姓名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包裹數量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抵達日期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、及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預計領取日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6360" y="5013360"/>
            <a:ext cx="372744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r Name 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護照中英文姓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/O Neil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49 West 10th Aven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lumbus, Ohio 432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.S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Off camp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建議在確定地址後再請家人從台灣寄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最保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空運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10~15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海運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個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最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1" lang="zh-TW" sz="6600" spc="-1" strike="noStrike">
                <a:solidFill>
                  <a:srgbClr val="000000"/>
                </a:solidFill>
                <a:latin typeface="Arial"/>
                <a:ea typeface="新細明體"/>
              </a:rPr>
              <a:t>行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67120" y="2976480"/>
            <a:ext cx="261324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如何從機場到學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WSA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免費新生接機服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Supported by OSU TWSA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、慈青、華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&amp;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美國教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olumbus International airport (CM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New student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線上申請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“接機資料線上表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"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 </a:t>
            </a:r>
            <a:br>
              <a:rPr sz="2400"/>
            </a:b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ea typeface="新細明體"/>
                <a:hlinkClick r:id="rId1"/>
              </a:rPr>
              <a:t>http://twsa.org.ohio-state.edu/newstudent/pickup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行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起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14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天前提出申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如何從機場到學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以下任何一個原因都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有可能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導致我們真的無法提供你接機服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行李數量超過一台車所能承載的容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有隨行家屬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到達時間真的過早或過晚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e.g. 6:00 AM or 1:00 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同一天同時間同時來太多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&gt;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Part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食衣住行育樂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OSU, Colum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自由發問時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分組討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15848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irp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19160" y="1668600"/>
            <a:ext cx="888192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如何從機場到學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如果沒有人接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該怎麼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人生地不熟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不建議搭市公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CO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axi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dependent Taxi Cab Assoc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614)235-55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~$26 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OSU campus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huttle bus 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分鐘一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價格應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axi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便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rch Exp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(614)252-227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uper Shutt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614)868-888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rban Exp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(614)840-04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lumbus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的交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有車比較方便，但需要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parking per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三種，價格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校內公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市公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腳踏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AB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校內公車，可免費搭乘（不需證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平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分鐘一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可到達校內主要地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市公車，憑學生證可免費搭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#2 Giant Eagle/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有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四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東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#7 UV/Kroger/M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#18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一元電影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/Mall at Tuttle Cro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#84 Lennox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#52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機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考駕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考筆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+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路考即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筆試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電腦考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拿當地交通規則手冊念一念應夠實力應付筆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筆試過後即可立刻預約時間路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路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考試內容固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e.g.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倒車入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路邊停車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WSA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有免費提供的練車竿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記得把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台灣駕照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和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Arial"/>
                <a:ea typeface="新細明體"/>
              </a:rPr>
              <a:t>國際駕照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都帶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可省二十多元免辦學習駕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1" lang="zh-TW" sz="6600" spc="-1" strike="noStrike">
                <a:solidFill>
                  <a:srgbClr val="000000"/>
                </a:solidFill>
                <a:latin typeface="Arial"/>
                <a:ea typeface="新細明體"/>
              </a:rPr>
              <a:t>育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36960" y="3054240"/>
            <a:ext cx="45957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選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uckeye link: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ea typeface="新細明體"/>
                <a:hlinkClick r:id="rId1"/>
              </a:rPr>
              <a:t>http://buckeyelink.os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選課：可以查各科系的課程大綱、教授、已選人數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查成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繳學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更改住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ctivate e-mail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選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6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以上的課皆為研究所的課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DU PAES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有體育課可以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球類：籃球、桌球、羽球、壘球、高爾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水上運動：游泳、水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有氧、瑜珈、太極拳、柔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Pistol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、來福槍、騎馬、射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裁判課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E-mail Accou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ea typeface="新細明體"/>
                <a:hlinkClick r:id="rId1"/>
              </a:rPr>
              <a:t>https://webmail.os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先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uckeye link activate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帳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lastname.#@os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終身可以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氣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四季分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月均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月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月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最冷的月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：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-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7~8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最熱的月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：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冷熱溫差大，以今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6/17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來說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19~3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氣候乾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ree Resour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UCK ID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在校內多處可以免費列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riting Center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可以討論報告、作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Yunkin Success Center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可討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re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OUAB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免費電影及活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Oth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ireless sp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Library, Ohio Union, restauran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R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籃球、排球、羽球、壁球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遊戲室：桌球、撞球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osball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ir hoc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游泳池、三溫暖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pa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、兒童戲水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室內跑道、重訓器材、跑步機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Locker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1" lang="zh-TW" sz="6600" spc="-1" strike="noStrike">
                <a:solidFill>
                  <a:srgbClr val="000000"/>
                </a:solidFill>
                <a:latin typeface="Arial"/>
                <a:ea typeface="新細明體"/>
              </a:rPr>
              <a:t>樂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課堂沒教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Look Good, Feel G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 Colum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9640" y="2276640"/>
            <a:ext cx="219744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lumbus is Full of Fu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ars &amp; Lou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Mo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40280" y="3357720"/>
            <a:ext cx="37717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ars &amp; Lou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3771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離學校最近的一間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新細明體"/>
              </a:rPr>
              <a:t>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downtown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新細明體"/>
              </a:rPr>
              <a:t>走約步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5 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新細明體"/>
              </a:rPr>
              <a:t>分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305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精選店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99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most bars require 2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most admission $7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04920" y="4532400"/>
            <a:ext cx="3562200" cy="1417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600200" y="2744640"/>
            <a:ext cx="21718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hopp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10920" y="2133720"/>
            <a:ext cx="3771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Easton Town C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新細明體"/>
              </a:rPr>
              <a:t>最大規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shopping mall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新細明體"/>
              </a:rPr>
              <a:t>特色餐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新細明體"/>
              </a:rPr>
              <a:t>主流百貨公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Macy’s &amp; Nordst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27280" y="2133720"/>
            <a:ext cx="3771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Tuttle Crossing M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新細明體"/>
              </a:rPr>
              <a:t>可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18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新細明體"/>
              </a:rPr>
              <a:t>號公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新細明體"/>
              </a:rPr>
              <a:t>離學校最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4000" y="4220640"/>
            <a:ext cx="377172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Polaris Fashio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新細明體"/>
              </a:rPr>
              <a:t>精品路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Saks 5th A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356000" y="3227400"/>
            <a:ext cx="37735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Prime Outlet-Jeffersonvi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C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BCB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PO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新細明體"/>
              </a:rPr>
              <a:t>Banana           Republ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395520" y="115920"/>
            <a:ext cx="2040120" cy="1479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434280" y="4508640"/>
            <a:ext cx="24588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ov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3772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一張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8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學生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7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學校附近可以去的電影院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GATEWAY DREXEL THE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可以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UCK ID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Ohio Union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塊錢的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MC Lennox Town Center 2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58920" y="2176200"/>
            <a:ext cx="4033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olumbus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還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Dollar Cin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看一場電影只要一塊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343400" y="5257800"/>
            <a:ext cx="4495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ootb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176480" y="2133720"/>
            <a:ext cx="3403440" cy="39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910040" y="2928960"/>
            <a:ext cx="3776760" cy="23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同學會諮詢專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ai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顏瑋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0937-900-896 (6/28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之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lice 0919-854-728 (Current ~ S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劉任修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614-329-7308 (Current ~ S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顏瑋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734-945-8596 (6/28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之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12500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各科系學長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1413000"/>
          <a:ext cx="9144000" cy="4922640"/>
        </p:xfrm>
        <a:graphic>
          <a:graphicData uri="http://schemas.openxmlformats.org/drawingml/2006/table">
            <a:tbl>
              <a:tblPr/>
              <a:tblGrid>
                <a:gridCol w="3689280"/>
                <a:gridCol w="2352600"/>
                <a:gridCol w="3102120"/>
              </a:tblGrid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Accoun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Hsin-Yun Ch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新細明體"/>
                        </a:rPr>
                        <a:t>becrystal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Aero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Hsun-Hsuan Hu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新細明體"/>
                          <a:hlinkClick r:id="rId1"/>
                        </a:rPr>
                        <a:t>huang.497@osu.e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Atmospheric 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eng-Pai H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新細明體"/>
                        </a:rPr>
                        <a:t>mengpai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Chemi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Yi-Hsuan Ch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新細明體"/>
                          <a:hlinkClick r:id="rId2"/>
                        </a:rPr>
                        <a:t>rosa.yhchou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Computer Science &amp;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Kai-Wei Fa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新細明體"/>
                          <a:hlinkClick r:id="rId3"/>
                        </a:rPr>
                        <a:t>kaiwei.fan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Computer Science &amp;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Ren-Shiou L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新細明體"/>
                          <a:hlinkClick r:id="rId4"/>
                        </a:rPr>
                        <a:t>rsliu.tw@yahoo.com.t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E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Ching-Hsing Ch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新細明體"/>
                          <a:hlinkClick r:id="rId5"/>
                        </a:rPr>
                        <a:t>oakely2001@yahoo.com.t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Electrical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Tai-Wei F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新細明體"/>
                          <a:hlinkClick r:id="rId6"/>
                        </a:rPr>
                        <a:t>fangdebby@yahoo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Geodetic 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Li-Ju C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新細明體"/>
                          <a:hlinkClick r:id="rId7"/>
                        </a:rPr>
                        <a:t>lisaasil_chen@hot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氣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2787480"/>
            <a:ext cx="3776400" cy="26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10040" y="2787480"/>
            <a:ext cx="3776760" cy="26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05228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各科系學長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413000"/>
          <a:ext cx="9144000" cy="4998960"/>
        </p:xfrm>
        <a:graphic>
          <a:graphicData uri="http://schemas.openxmlformats.org/drawingml/2006/table">
            <a:tbl>
              <a:tblPr/>
              <a:tblGrid>
                <a:gridCol w="3652920"/>
                <a:gridCol w="2446200"/>
                <a:gridCol w="3044880"/>
              </a:tblGrid>
              <a:tr h="50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Human Ec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ei-Chi F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新細明體"/>
                          <a:hlinkClick r:id="rId1"/>
                        </a:rPr>
                        <a:t>fang.70@osu.e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Human Re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Yi-Hsuan 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新細明體"/>
                        </a:rPr>
                        <a:t>yihsuan0608@hot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Human Re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in-Yi W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新細明體"/>
                          <a:hlinkClick r:id="rId2"/>
                        </a:rPr>
                        <a:t>wang.983@osu.e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Industrial &amp; Systems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OR)Jeff Ch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新細明體"/>
                        </a:rPr>
                        <a:t>chinsishe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Industrial &amp; Systems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(Ergo)Wei-Ting Ye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新細明體"/>
                        </a:rPr>
                        <a:t>yen.58@osu.e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Lawre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新細明體"/>
                        </a:rPr>
                        <a:t>chang.625@osu.e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Lin-San Ch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新細明體"/>
                        </a:rPr>
                        <a:t>bala333@hot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Natural Re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Jung-Chen Hu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新細明體"/>
                        </a:rPr>
                        <a:t>huang.498@osu.e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Sport &amp; Exercise Edu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Yin-Chiou 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新細明體"/>
                        </a:rPr>
                        <a:t>chiaolin2002@hot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Sport &amp; Exercise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u-An Y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新細明體"/>
                          <a:hlinkClick r:id="rId3"/>
                        </a:rPr>
                        <a:t>littlelock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112500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各科系學長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600200"/>
          <a:ext cx="9144000" cy="2115720"/>
        </p:xfrm>
        <a:graphic>
          <a:graphicData uri="http://schemas.openxmlformats.org/drawingml/2006/table">
            <a:tbl>
              <a:tblPr/>
              <a:tblGrid>
                <a:gridCol w="3728880"/>
                <a:gridCol w="2374920"/>
                <a:gridCol w="3040200"/>
              </a:tblGrid>
              <a:tr h="528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Teaching &amp; 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Yi-Li Che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新細明體"/>
                        </a:rPr>
                        <a:t>yili77@hot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Teaching &amp; 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Fu-Yuan S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新細明體"/>
                        </a:rPr>
                        <a:t>shen.106@osu.e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Teaching &amp; 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Hsiu-Hsi T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新細明體"/>
                        </a:rPr>
                        <a:t>hsiuhsi@gmail.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66"/>
                          </a:solidFill>
                          <a:latin typeface="Arial"/>
                          <a:ea typeface="新細明體"/>
                        </a:rPr>
                        <a:t>Vet B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Tzu-Yin L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新細明體"/>
                        </a:rPr>
                        <a:t>vetcindy@yahoo.com.t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新細明體"/>
              </a:rPr>
              <a:t>Questions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進關注意事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食物可以帶上飛機，但是特定種類食物不能帶進美國境內。例如：肉類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豬肉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、種子類、植物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隨身行李中不可以攜帶危險物品。例如：刀類、打火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行李不要上鎖：在檢驗行李時，有時會需要開箱檢查，上鎖的話，會面臨鎖被撬開、皮箱被毀的危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00"/>
                </a:solidFill>
                <a:latin typeface="Arial"/>
                <a:ea typeface="新細明體"/>
              </a:rPr>
              <a:t>     </a:t>
            </a:r>
            <a:r>
              <a:rPr b="1" lang="zh-TW" sz="6600" spc="-1" strike="noStrike">
                <a:solidFill>
                  <a:srgbClr val="000000"/>
                </a:solidFill>
                <a:latin typeface="Arial"/>
                <a:ea typeface="新細明體"/>
              </a:rPr>
              <a:t>食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07000" y="3828960"/>
            <a:ext cx="33940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On Campus Di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ea typeface="新細明體"/>
                <a:hlinkClick r:id="rId1"/>
              </a:rPr>
              <a:t>http://diningservices.osu.edu/dinin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多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個餐廳，中西式的食物皆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可以買餐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Meal Swipes)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或用信用卡、現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O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ampus Di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學校外面什麼店都有，從學校走路都可以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麥當勞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teak &amp; Shake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endy’s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Jimmy John’s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、達美樂、醉樂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(Joy‘s Village)…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走遠一點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eafood Japan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：韓國日本料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old Stone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：冰淇淋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開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Restaurant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Apple B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Happy Dr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1:52:49Z</dcterms:created>
  <dc:creator>user lala</dc:creator>
  <dc:description/>
  <cp:keywords/>
  <dc:language>en-US</dc:language>
  <cp:lastModifiedBy>Wei-Ting Yen</cp:lastModifiedBy>
  <dcterms:modified xsi:type="dcterms:W3CDTF">2006-06-17T09:29:48Z</dcterms:modified>
  <cp:revision>71</cp:revision>
  <dc:subject/>
  <dc:title>投影片 1</dc:title>
</cp:coreProperties>
</file>